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8F47-FDC2-43AB-8D50-09E982064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3E1F-B163-4397-B8DF-9C0BDEE56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3CD6-577C-423A-A86E-4944A4CBE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43D3-C217-4EF3-A2D6-F21482EA3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BB6B-D0A3-42F4-81B7-919C2804A8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EA6D-4A73-49BF-81CF-2AA531AE6E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2505-15A3-4843-A2AD-E5E5276B4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E7FE-D1DB-4AE6-8AF5-DAD2A025C3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7155-E4C8-4D72-9E38-26C637D85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3D78-44BC-4200-B53D-F17FD5D5E5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4DCE-C04C-40E3-BA30-17216FC185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6DB5-282E-4AC9-AEFA-EC195089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7F80-80F9-4AAF-B800-2A3E0BE86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0BD6-27E6-4CC6-B868-A33F52BAD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32FE-B5AC-4A33-BD8B-2E0B05606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0DB0-EEA8-4594-8001-85C073083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1BEF-87FF-480F-9BF7-5BE6A04F0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487D-FFFE-49BE-9AAC-CB8638150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E85F-FB78-429C-AEF6-924C20382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C498-81EC-46B3-A58A-35CCC7215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80C4-7172-43A2-8F33-04BEE09BB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8CE6-497A-467E-9F01-169CAA508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9ABC-F531-47AA-B3E1-4464856CD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898-BCFF-4F27-8C32-E12ADB15E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B98C-7535-4E7D-A58B-B39AF4F17E9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B810-0EC0-4BED-BE6E-0C5A922265F5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8FCA-0E4B-4A23-BAAF-267AA9FC24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차원 물체표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계면 표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oundary Surface Represent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Mesh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 메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urface Mesh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 메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lygon Mesh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면 다각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urface Polyg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lygon)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각형 메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ctangular Mesh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 보장 못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삼각형 메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riangular Mesh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 보장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배의 드로잉 속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959280" cy="193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175280" cy="19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3433-CCC8-43CF-A215-F103FE100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차원 회전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o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2737080" cy="2247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5379840" cy="9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3611520" cy="134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6B03-3B83-4412-859F-A98A6B8AA0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D - Ro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d as rotation with respect to axis of ro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nter-clockwise rotation an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5329440" cy="2022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332000" y="4508640"/>
            <a:ext cx="4168800" cy="1515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588000" y="1484280"/>
            <a:ext cx="119232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A56D-D51E-4CE7-A474-B58E133F8A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크기조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cal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균등 크기조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niform Scaling) vs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차등 크기조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Non-Uniform Scal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736720" cy="1438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59280" y="2205000"/>
            <a:ext cx="3168720" cy="1596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87280" y="4221000"/>
            <a:ext cx="3649680" cy="15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5AFB-DCDB-4286-BA34-B6D275310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전단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hear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x-y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면에서의 전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3889080" cy="17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1927080" cy="1121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258920" y="4581360"/>
            <a:ext cx="4022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10B2-D8E4-4995-8FA5-970C75A67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복합변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omposite Transform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크기조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1)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결과 물체를 회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1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한 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다시 크기조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' = S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행렬곱셈의 순서에 유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' = C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복합행렬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는 한번만 계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모든 정점에 적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7980-07A6-421D-B037-75F3FB418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복합변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점 기준 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rigin Rotation) versu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중심점 기준 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ivot Point Rot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중심점 기준 회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피벗이 좌표계 원점에 일치하도록 물체를 이동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원점 기준으로 축 주위로 회전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된 물체를 ➀번에서 이동한 방향의 반대 방향으로 이동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484360" y="1268280"/>
            <a:ext cx="439272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979640" y="4508640"/>
            <a:ext cx="5113440" cy="144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24000" y="5805360"/>
            <a:ext cx="485460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1A9E-C040-4F07-9833-E92AC6C7D6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이동 후 회전과 회전 후 이동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교환법칙이 성립하지 않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은 일반적으로 서로 다른 결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인스턴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 = T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ㆍ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523872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258920" y="4437000"/>
            <a:ext cx="428148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F209-6F15-4BAC-A375-0B11864748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반사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Refle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004000" cy="1811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476360" y="3645000"/>
            <a:ext cx="489276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03280" y="4581360"/>
            <a:ext cx="5859360" cy="12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E29B-3F89-44B0-A032-0F5D97B1C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=x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기준의 반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복합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5114880" cy="147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7628040" cy="9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CE03-6F7E-4B7C-B96A-6C50F9A93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구조왜곡 변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tructure-Deforming Transform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테이퍼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aper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따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크기조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end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을 따라 물체가 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비틀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wist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따라 회전각 증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042920" y="3357720"/>
            <a:ext cx="3168720" cy="229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435640" y="3860640"/>
            <a:ext cx="157320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D7A-B613-449E-AE59-A61037B257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와이어 프레임과 솔리드 렌더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Wireframe, Solid Rend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이어 프레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드로잉 속도가 빠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끔식 솔리드 렌더링으로 외형 확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2022480" cy="20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132000" y="2133720"/>
            <a:ext cx="2027520" cy="208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292720" y="2133720"/>
            <a:ext cx="2028960" cy="208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F075-3A23-4555-BC7F-F498D7C28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Verdana"/>
              </a:rPr>
              <a:t>강체변환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Rigid Body Transfor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이동변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회전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 자체의 모습은 불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Verdana"/>
              </a:rPr>
              <a:t>유사변환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Similarity Transfor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강체변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균등 크기조절 변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반사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면 사이의 각이 유지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내부 정점간의 거리가 일정한 비율로 유지됨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Verdana"/>
              </a:rPr>
              <a:t>어파인변환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(Affine Transformation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유사변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차등 크기조절 변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전단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체의 타입이 유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직선은 직선으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다각형은 다각형으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곡면은 곡면으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평행선이 보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변환행렬의 마지막 행이 항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0, 0, 0, 1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508720" y="907920"/>
            <a:ext cx="3168720" cy="220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611B-ADB7-46F7-BC06-1F42E3A25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원근변환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Perspective Transformatio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평행선이 만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선이 직선으로 유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변환행렬의 마지막 행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0, 0, 0, 1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아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선형변환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Linear Transformatio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변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근 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형 조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inear Combinatio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으로 표시되는 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' = ax + by + c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'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, z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라는 변수를 각각 상수 배 한 것을 더한 것이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724360" y="836640"/>
            <a:ext cx="3168720" cy="2201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692360" y="4653000"/>
            <a:ext cx="546408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AB9D-CAFC-41E5-9B9A-F76C7E3229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행렬과 변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2520720" cy="224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D677-FE60-4EF7-BC90-059C5B3FB9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어파인 공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Q –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Q =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+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등식의 우변은 벡터와 점 사이의 덧셈이 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공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同族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親密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Affine Spa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과 벡터를 동족처럼 취급함으로써 벡터공간을 확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연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와 벡터의 덧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뺄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칼라와 벡터의 곱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나눗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점과 벡터의 덧셈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뺄셈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484360" y="83664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07EF-92DB-4AE6-AA5C-7C4D4E700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어파인 공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분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 = P + (1/2)(Q - P)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 = P + t (Q - P)  = (1 - t)P + (t)Q  (0 ≤ t ≤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공간에서 어파인 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ffine Su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의 계수 합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되는 경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의 덧셈은 각 점들 앞의 계수 합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 때에 한해서만 허용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258920" y="1557360"/>
            <a:ext cx="4392720" cy="20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6BDF-372B-4366-B414-564589D56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좌표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반벡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 = 4 V1 + 2 V2 + V3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방향동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반벡터만으로 표시가능 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표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점과 기반벡터로 구성되는 프레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좌표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(r, V1, V2, V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파인 공간에서 기반벡터 시작점을 일치시킨 곳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= r + 4V1 + 2V2 + V3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점이 필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5256360" cy="1041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71640" y="5229360"/>
            <a:ext cx="6553080" cy="140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0481-3DB8-432E-BC25-BEA01E367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동차좌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Homogeneous Coordinate Syst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와 점의 표현이 다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 = 4 V1 + 2 V2 + V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= r + 4V1 + 2V2 + V3 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을 하나 올리면 동일 방법으로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 = 4 V1 + 2 V2 + V3  + 0 r = (4, 2, 1, 0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 = 4V1 + 2V2 + V3 + 1 r  = (4, 2, 1, 1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점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1, 2,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동차좌표로 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차좌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1, 2, 1, 1) = (2, 4, 2, 2) = (3, 6, 3, 3) =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차좌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x, y, z, w) =&gt; 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좌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x/w, y/w, z/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3441600" cy="18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67A2-23CC-404B-8F4E-BBDFB7ACF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기하변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Geometric Transform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변환 또는 좌표계 변환의 기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행렬로 표현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동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크기조절 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BFE3-AAC7-4B86-AA58-230BFB6AD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차원 이동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Transl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' = 1☓x + 0☓y + Tx☓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' = 0☓x + 1☓y + Ty☓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484360" y="1989000"/>
            <a:ext cx="3960720" cy="201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763640" y="4581360"/>
            <a:ext cx="2773440" cy="8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DEE4-DFCB-4D05-9212-A268BD0273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차원 이동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3384360" cy="196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50920" y="4292640"/>
            <a:ext cx="1455840" cy="54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3254400" cy="11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7C82-D6F9-4F05-8FD0-F57C6D2490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eng</cp:lastModifiedBy>
  <dcterms:modified xsi:type="dcterms:W3CDTF">2006-04-19T03:05:15Z</dcterms:modified>
  <cp:revision>392</cp:revision>
  <dc:subject/>
  <dc:title>PowerPoint 프레젠테이션</dc:title>
</cp:coreProperties>
</file>